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036A-694A-42BD-B836-5DFAD3E2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4B2-2D9F-4497-B570-75DF2F58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CD0-6422-4436-8084-767E62D8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1EE-C073-47AB-B535-10869402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14A-9F02-4535-8D65-2F0C210A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B79-FCBF-4FDC-80AA-11C3E1E1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3B8-2D21-4218-B2E4-42D08C7A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92C2-BC9D-40E1-AE2C-08BCCDDE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4A83-617A-41F7-B51E-9D7DDE8B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88DD-314B-4D50-A00D-CFEBDB00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740-75D1-4D22-B101-B2673247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3F2-75D7-4046-A3B5-480FFAFF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B32F-79B7-4106-AEC8-032243436EA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John\Local Settings\Temporary Internet Files\Content.IE5\NVY6RCLK\MCj04336080000[1].wmf"/>
          <p:cNvPicPr/>
          <p:nvPr/>
        </p:nvPicPr>
        <p:blipFill>
          <a:blip r:embed="rId1"/>
          <a:stretch/>
        </p:blipFill>
        <p:spPr>
          <a:xfrm>
            <a:off x="303120" y="1135080"/>
            <a:ext cx="3768840" cy="4844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sarfinia.jpg"/>
          <p:cNvPicPr/>
          <p:nvPr/>
        </p:nvPicPr>
        <p:blipFill>
          <a:blip r:embed="rId2"/>
          <a:stretch/>
        </p:blipFill>
        <p:spPr>
          <a:xfrm>
            <a:off x="4357800" y="571680"/>
            <a:ext cx="1577880" cy="98568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3929040" y="1714680"/>
            <a:ext cx="250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all enough to be classified as an island but big enough to be a universe unto itself, Sardinia lies about 120 miles west of the Italian peninsula. Its coastline is probably Europe's most specta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285840" y="3571920"/>
            <a:ext cx="857160" cy="1214280"/>
          </a:xfrm>
          <a:prstGeom prst="ellipse">
            <a:avLst/>
          </a:prstGeom>
          <a:solidFill>
            <a:srgbClr val="4f81b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5286240" y="507204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lick  on Sardinia to reveal or hide the inf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4857840" y="214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igger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06:19:25Z</dcterms:created>
  <dc:creator>John Wilson</dc:creator>
  <dc:description/>
  <dc:language>en-US</dc:language>
  <cp:lastModifiedBy>John Wilson</cp:lastModifiedBy>
  <dcterms:modified xsi:type="dcterms:W3CDTF">2008-03-06T07:47:43Z</dcterms:modified>
  <cp:revision>3</cp:revision>
  <dc:subject/>
  <dc:title>Slide 1</dc:title>
</cp:coreProperties>
</file>