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  <p:custShowLst>
    <p:custShow name="Custom Show 1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AE17-A272-474F-BD2B-9CBAB8C1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22F-25E1-44EB-A2A2-08D9B8DD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F4D-7F36-4576-BBBB-86625F18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5922-B839-4773-B2BB-581654CF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DD6-3449-444B-A950-3F4CAC44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AE3-8241-4E41-9A14-6EE8079A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B97-00CD-47C3-859A-5AAA750D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E2A-1360-4B68-8B1F-58A6AD38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FF3-CE84-49DF-8866-630FB5AA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90C9-FA9F-4253-9F26-7CB7A1C2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3144-EDE9-4E82-B0A2-D9ACCE57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466-997C-4886-8673-D0341AA2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ABDF-8C5F-410A-B7C8-045E0F0BD13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John\Local Settings\Temporary Internet Files\Content.IE5\NVY6RCLK\MCj04336080000[1].wmf"/>
          <p:cNvPicPr/>
          <p:nvPr/>
        </p:nvPicPr>
        <p:blipFill>
          <a:blip r:embed="rId1"/>
          <a:stretch/>
        </p:blipFill>
        <p:spPr>
          <a:xfrm>
            <a:off x="303120" y="1135080"/>
            <a:ext cx="3768840" cy="4844880"/>
          </a:xfrm>
          <a:prstGeom prst="rect">
            <a:avLst/>
          </a:prstGeom>
          <a:ln w="0">
            <a:noFill/>
          </a:ln>
        </p:spPr>
      </p:pic>
      <p:sp>
        <p:nvSpPr>
          <p:cNvPr id="42" name="Oval 6"/>
          <p:cNvSpPr/>
          <p:nvPr/>
        </p:nvSpPr>
        <p:spPr>
          <a:xfrm>
            <a:off x="285840" y="3571920"/>
            <a:ext cx="857160" cy="1214280"/>
          </a:xfrm>
          <a:prstGeom prst="ellipse">
            <a:avLst/>
          </a:prstGeom>
          <a:solidFill>
            <a:srgbClr val="4f81b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5286240" y="507204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lick  on Sardinia to reveal or hide the inf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ction Button: Custom 7">
            <a:hlinkClick r:id="" action="ppaction://hlinkshowjump?jump=endshow"/>
          </p:cNvPr>
          <p:cNvSpPr/>
          <p:nvPr/>
        </p:nvSpPr>
        <p:spPr>
          <a:xfrm>
            <a:off x="7715160" y="6286680"/>
            <a:ext cx="857520" cy="357120"/>
          </a:xfrm>
          <a:custGeom>
            <a:avLst/>
            <a:gdLst>
              <a:gd name="textAreaLeft" fmla="*/ 23040 w 857520"/>
              <a:gd name="textAreaRight" fmla="*/ 834480 w 8575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1836" h="21600">
                <a:moveTo>
                  <a:pt x="0" y="0"/>
                </a:moveTo>
                <a:lnTo>
                  <a:pt x="51836" y="0"/>
                </a:lnTo>
                <a:lnTo>
                  <a:pt x="51836" y="21600"/>
                </a:lnTo>
                <a:lnTo>
                  <a:pt x="0" y="21600"/>
                </a:lnTo>
                <a:close/>
              </a:path>
              <a:path fill="lightenLess" w="51836" h="21600">
                <a:moveTo>
                  <a:pt x="0" y="0"/>
                </a:moveTo>
                <a:lnTo>
                  <a:pt x="51836" y="0"/>
                </a:lnTo>
                <a:lnTo>
                  <a:pt x="50436" y="1400"/>
                </a:lnTo>
                <a:lnTo>
                  <a:pt x="1400" y="1400"/>
                </a:lnTo>
                <a:close/>
              </a:path>
              <a:path fill="darken" w="51836" h="21600">
                <a:moveTo>
                  <a:pt x="51836" y="0"/>
                </a:moveTo>
                <a:lnTo>
                  <a:pt x="51836" y="21600"/>
                </a:lnTo>
                <a:lnTo>
                  <a:pt x="50436" y="20200"/>
                </a:lnTo>
                <a:lnTo>
                  <a:pt x="50436" y="1400"/>
                </a:lnTo>
                <a:close/>
              </a:path>
              <a:path fill="darkenLess" w="51836" h="21600">
                <a:moveTo>
                  <a:pt x="51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36" y="20200"/>
                </a:lnTo>
                <a:close/>
              </a:path>
              <a:path fill="lighten" w="51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4429080" y="2858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 Show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John\Local Settings\Temporary Internet Files\Content.IE5\NVY6RCLK\MCj04336080000[1].wmf"/>
          <p:cNvPicPr/>
          <p:nvPr/>
        </p:nvPicPr>
        <p:blipFill>
          <a:blip r:embed="rId1"/>
          <a:stretch/>
        </p:blipFill>
        <p:spPr>
          <a:xfrm>
            <a:off x="303120" y="1135080"/>
            <a:ext cx="3768840" cy="4844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sarfinia.jpg"/>
          <p:cNvPicPr/>
          <p:nvPr/>
        </p:nvPicPr>
        <p:blipFill>
          <a:blip r:embed="rId2"/>
          <a:stretch/>
        </p:blipFill>
        <p:spPr>
          <a:xfrm>
            <a:off x="4357800" y="571680"/>
            <a:ext cx="1577880" cy="98568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3929040" y="1714680"/>
            <a:ext cx="250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all enough to be classified as an island but big enough to be a universe unto itself, Sardinia lies about 120 miles west of the Italian peninsula. Its coastline is probably Europe's most specta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5286240" y="507204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lick  anywhere to hide the inf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John\Local Settings\Temporary Internet Files\Content.IE5\NVY6RCLK\MCj04336080000[1].wmf"/>
          <p:cNvPicPr/>
          <p:nvPr/>
        </p:nvPicPr>
        <p:blipFill>
          <a:blip r:embed="rId1"/>
          <a:stretch/>
        </p:blipFill>
        <p:spPr>
          <a:xfrm>
            <a:off x="303120" y="1135080"/>
            <a:ext cx="3768840" cy="4844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sarfinia.jpg"/>
          <p:cNvPicPr/>
          <p:nvPr/>
        </p:nvPicPr>
        <p:blipFill>
          <a:blip r:embed="rId2"/>
          <a:stretch/>
        </p:blipFill>
        <p:spPr>
          <a:xfrm>
            <a:off x="4357800" y="571680"/>
            <a:ext cx="1577880" cy="98568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3929040" y="1714680"/>
            <a:ext cx="250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all enough to be classified as an island but big enough to be a universe unto itself, Sardinia lies about 120 miles west of the Italian peninsula. Its coastline is probably Europe's most specta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06:19:25Z</dcterms:created>
  <dc:creator>John Wilson</dc:creator>
  <dc:description/>
  <dc:language>en-US</dc:language>
  <cp:lastModifiedBy>John Wilson</cp:lastModifiedBy>
  <dcterms:modified xsi:type="dcterms:W3CDTF">2008-03-06T07:48:37Z</dcterms:modified>
  <cp:revision>5</cp:revision>
  <dc:subject/>
  <dc:title>Slide 1</dc:title>
</cp:coreProperties>
</file>