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6E1-070C-4246-80FF-CC3D29AE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BA1-8CF3-4A88-B880-2A8ACF8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3D2-A26F-4918-9B7C-D7A3FBAF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1F1-2668-4458-BB52-D1E896A7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FF0-A6C8-4CF6-8504-92429811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746-0434-4208-BB6E-ED1918FE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9D0-C043-468C-B6D5-A727C06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D67-803D-4BCD-8F89-CB74BFA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F0E-ECA6-4C79-BDF3-DEA073A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4AC-5319-4559-A88D-4FA2CE3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ACF-CB1F-47B5-926F-7FD1DCD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A3F-CEC1-4BE3-9811-A4DCF80A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A84-78BC-4D6D-851B-5BC6742D74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7:22:15Z</dcterms:created>
  <dc:creator>Trish Pemberton</dc:creator>
  <dc:description/>
  <dc:language>en-US</dc:language>
  <cp:lastModifiedBy>Trish Pemberton</cp:lastModifiedBy>
  <dcterms:modified xsi:type="dcterms:W3CDTF">2011-12-10T17:22:16Z</dcterms:modified>
  <cp:revision>2</cp:revision>
  <dc:subject/>
  <dc:title>Test</dc:title>
</cp:coreProperties>
</file>