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176-86B3-4C33-8096-1D42604B62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0A7-2D62-4DC1-AAE0-DCC00452F1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7FD5-AB62-4C51-8CB2-E1C1D05982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CFF-C0E5-48BA-8DF9-B296CEF37D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B73F-5AFC-4B3D-92F0-D6E776B6E6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0E6-DDFF-49AD-83DE-81EDF05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ACB-52E4-47CB-9087-867B4A35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862-2AAB-46CC-B8A8-E6ADEE42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A3B-3DF9-4754-8F8A-3AE3D8E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B7B-E7E5-460B-8237-1CE5D246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295-754E-4AB4-B382-A318EB5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E60-B97F-4BB5-8CB7-461B8F5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DAF-E8B4-4E38-B589-9B497EC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7F2-3487-4EFF-954E-DB22C44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4A7-474E-4C2D-8ED9-CE1A057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31B-52E0-42B0-B08F-B000F6E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AA9-97B2-427C-98E8-CF7F86C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‹</a:t>
            </a: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ace of hearts.png"/>
          <p:cNvPicPr/>
          <p:nvPr/>
        </p:nvPicPr>
        <p:blipFill>
          <a:blip r:embed="rId1"/>
          <a:stretch/>
        </p:blipFill>
        <p:spPr>
          <a:xfrm>
            <a:off x="4968720" y="3865680"/>
            <a:ext cx="1797120" cy="229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ce of clubs.png"/>
          <p:cNvPicPr/>
          <p:nvPr/>
        </p:nvPicPr>
        <p:blipFill>
          <a:blip r:embed="rId2"/>
          <a:stretch/>
        </p:blipFill>
        <p:spPr>
          <a:xfrm>
            <a:off x="5754600" y="3981600"/>
            <a:ext cx="1432080" cy="20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ce of diamonds.png"/>
          <p:cNvPicPr/>
          <p:nvPr/>
        </p:nvPicPr>
        <p:blipFill>
          <a:blip r:embed="rId3"/>
          <a:stretch/>
        </p:blipFill>
        <p:spPr>
          <a:xfrm>
            <a:off x="255600" y="237960"/>
            <a:ext cx="3127320" cy="390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ce of spades.png"/>
          <p:cNvPicPr/>
          <p:nvPr/>
        </p:nvPicPr>
        <p:blipFill>
          <a:blip r:embed="rId4"/>
          <a:stretch/>
        </p:blipFill>
        <p:spPr>
          <a:xfrm>
            <a:off x="6553080" y="3889440"/>
            <a:ext cx="2000520" cy="2395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82440" y="857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ngle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37656 -0.01806 L 0.54809 0.40255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63611.7630004883" y="63073.3184814453"/>
                                    </p:animScale>
                                    <p:animRot by="1518940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ace of hearts.png"/>
          <p:cNvPicPr/>
          <p:nvPr/>
        </p:nvPicPr>
        <p:blipFill>
          <a:blip r:embed="rId1"/>
          <a:stretch/>
        </p:blipFill>
        <p:spPr>
          <a:xfrm>
            <a:off x="4816440" y="18900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ace of clubs.png"/>
          <p:cNvPicPr/>
          <p:nvPr/>
        </p:nvPicPr>
        <p:blipFill>
          <a:blip r:embed="rId2"/>
          <a:stretch/>
        </p:blipFill>
        <p:spPr>
          <a:xfrm>
            <a:off x="3657600" y="86508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ace of diamonds.png"/>
          <p:cNvPicPr/>
          <p:nvPr/>
        </p:nvPicPr>
        <p:blipFill>
          <a:blip r:embed="rId3"/>
          <a:stretch/>
        </p:blipFill>
        <p:spPr>
          <a:xfrm>
            <a:off x="2243160" y="1189080"/>
            <a:ext cx="182232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ace of spades.png"/>
          <p:cNvPicPr/>
          <p:nvPr/>
        </p:nvPicPr>
        <p:blipFill>
          <a:blip r:embed="rId4"/>
          <a:stretch/>
        </p:blipFill>
        <p:spPr>
          <a:xfrm>
            <a:off x="1243080" y="2097000"/>
            <a:ext cx="18349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68480" y="50720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ti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37656 0.2810264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1169978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16454 0.3813941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470309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0939 0.450185 E"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0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72355 0.5485215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-714080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25" descr=""/>
          <p:cNvPicPr/>
          <p:nvPr/>
        </p:nvPicPr>
        <p:blipFill>
          <a:blip r:embed="rId1"/>
          <a:stretch/>
        </p:blipFill>
        <p:spPr>
          <a:xfrm>
            <a:off x="158760" y="609480"/>
            <a:ext cx="483408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Back"/>
          <p:cNvSpPr/>
          <p:nvPr/>
        </p:nvSpPr>
        <p:spPr>
          <a:xfrm>
            <a:off x="1278000" y="4614840"/>
            <a:ext cx="1377720" cy="885960"/>
          </a:xfrm>
          <a:custGeom>
            <a:avLst/>
            <a:gdLst/>
            <a:ahLst/>
            <a:rect l="l" t="t" r="r" b="b"/>
            <a:pathLst>
              <a:path w="1378744" h="885825">
                <a:moveTo>
                  <a:pt x="0" y="0"/>
                </a:moveTo>
                <a:lnTo>
                  <a:pt x="1378744" y="2382"/>
                </a:lnTo>
                <a:lnTo>
                  <a:pt x="1378744" y="0"/>
                </a:lnTo>
                <a:cubicBezTo>
                  <a:pt x="1376363" y="295275"/>
                  <a:pt x="1373981" y="590550"/>
                  <a:pt x="1371600" y="885825"/>
                </a:cubicBezTo>
                <a:lnTo>
                  <a:pt x="14288" y="883444"/>
                </a:lnTo>
              </a:path>
            </a:pathLst>
          </a:custGeom>
          <a:solidFill>
            <a:srgbClr val="95b3d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Flap"/>
          <p:cNvGrpSpPr/>
          <p:nvPr/>
        </p:nvGrpSpPr>
        <p:grpSpPr>
          <a:xfrm>
            <a:off x="1292400" y="3965400"/>
            <a:ext cx="1374480" cy="648000"/>
            <a:chOff x="1292400" y="3965400"/>
            <a:chExt cx="1374480" cy="648000"/>
          </a:xfrm>
        </p:grpSpPr>
        <p:sp>
          <p:nvSpPr>
            <p:cNvPr id="61" name="Freeform 51"/>
            <p:cNvSpPr/>
            <p:nvPr/>
          </p:nvSpPr>
          <p:spPr>
            <a:xfrm flipV="1">
              <a:off x="1292400" y="3965400"/>
              <a:ext cx="1374480" cy="64800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373561" h="648020">
                  <a:moveTo>
                    <a:pt x="0" y="320"/>
                  </a:moveTo>
                  <a:lnTo>
                    <a:pt x="1373561" y="0"/>
                  </a:lnTo>
                  <a:lnTo>
                    <a:pt x="695325" y="64802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2"/>
            <p:cNvSpPr/>
            <p:nvPr/>
          </p:nvSpPr>
          <p:spPr>
            <a:xfrm>
              <a:off x="1380960" y="4044240"/>
              <a:ext cx="1208160" cy="5644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207294" h="564356">
                  <a:moveTo>
                    <a:pt x="0" y="561975"/>
                  </a:moveTo>
                  <a:lnTo>
                    <a:pt x="607219" y="0"/>
                  </a:lnTo>
                  <a:lnTo>
                    <a:pt x="1207294" y="564356"/>
                  </a:lnTo>
                  <a:lnTo>
                    <a:pt x="0" y="56197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2" descr="ace of diamonds.png"/>
          <p:cNvPicPr/>
          <p:nvPr/>
        </p:nvPicPr>
        <p:blipFill>
          <a:blip r:embed="rId2"/>
          <a:stretch/>
        </p:blipFill>
        <p:spPr>
          <a:xfrm>
            <a:off x="811080" y="3024360"/>
            <a:ext cx="2303640" cy="3436920"/>
          </a:xfrm>
          <a:prstGeom prst="rect">
            <a:avLst/>
          </a:prstGeom>
          <a:ln w="0">
            <a:noFill/>
          </a:ln>
        </p:spPr>
      </p:pic>
      <p:grpSp>
        <p:nvGrpSpPr>
          <p:cNvPr id="64" name="front"/>
          <p:cNvGrpSpPr/>
          <p:nvPr/>
        </p:nvGrpSpPr>
        <p:grpSpPr>
          <a:xfrm>
            <a:off x="1287000" y="4619520"/>
            <a:ext cx="1379880" cy="881280"/>
            <a:chOff x="1287000" y="4619520"/>
            <a:chExt cx="1379880" cy="881280"/>
          </a:xfrm>
        </p:grpSpPr>
        <p:sp>
          <p:nvSpPr>
            <p:cNvPr id="65" name="Freeform 43"/>
            <p:cNvSpPr/>
            <p:nvPr/>
          </p:nvSpPr>
          <p:spPr>
            <a:xfrm>
              <a:off x="1875960" y="4619520"/>
              <a:ext cx="790920" cy="87732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"/>
            <p:cNvSpPr/>
            <p:nvPr/>
          </p:nvSpPr>
          <p:spPr>
            <a:xfrm flipH="1">
              <a:off x="1286640" y="4619520"/>
              <a:ext cx="790920" cy="877320"/>
            </a:xfrm>
            <a:custGeom>
              <a:avLst/>
              <a:gdLst>
                <a:gd name="textAreaLeft" fmla="*/ -360 w 790920"/>
                <a:gd name="textAreaRight" fmla="*/ 79092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1296720" y="5046120"/>
              <a:ext cx="1359720" cy="454680"/>
            </a:xfrm>
            <a:custGeom>
              <a:avLst/>
              <a:gdLst>
                <a:gd name="textAreaLeft" fmla="*/ 0 w 1359720"/>
                <a:gd name="textAreaRight" fmla="*/ 1360080 w 1359720"/>
                <a:gd name="textAreaTop" fmla="*/ 0 h 454680"/>
                <a:gd name="textAreaBottom" fmla="*/ 454680 h 454680"/>
              </a:gdLst>
              <a:ahLst/>
              <a:rect l="textAreaLeft" t="textAreaTop" r="textAreaRight" b="textAreaBottom"/>
              <a:pathLst>
                <a:path w="856" h="286">
                  <a:moveTo>
                    <a:pt x="570" y="0"/>
                  </a:moveTo>
                  <a:lnTo>
                    <a:pt x="570" y="0"/>
                  </a:lnTo>
                  <a:lnTo>
                    <a:pt x="286" y="0"/>
                  </a:lnTo>
                  <a:lnTo>
                    <a:pt x="0" y="286"/>
                  </a:lnTo>
                  <a:lnTo>
                    <a:pt x="856" y="286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pener"/>
          <p:cNvSpPr/>
          <p:nvPr/>
        </p:nvSpPr>
        <p:spPr>
          <a:xfrm>
            <a:off x="1285920" y="4611600"/>
            <a:ext cx="1373040" cy="6476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373561" h="648020">
                <a:moveTo>
                  <a:pt x="0" y="320"/>
                </a:moveTo>
                <a:lnTo>
                  <a:pt x="1373561" y="0"/>
                </a:lnTo>
                <a:lnTo>
                  <a:pt x="695325" y="648020"/>
                </a:lnTo>
                <a:lnTo>
                  <a:pt x="0" y="320"/>
                </a:lnTo>
                <a:close/>
              </a:path>
            </a:pathLst>
          </a:custGeom>
          <a:solidFill>
            <a:srgbClr val="d6d6d6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5429160" y="1701720"/>
            <a:ext cx="2357640" cy="3429000"/>
          </a:xfrm>
          <a:prstGeom prst="rect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798840" y="57150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Instant Shr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4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7586.0004425049" y="27586.0004425049"/>
                                    </p:animScale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0.01944 -0.38611 L 0.50781 -0.18889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7586.0004425049" y="27586.0004425049"/>
                                      <p:to x="100000" y="100000"/>
                                    </p:animScale>
                                    <p:animRot by="0">
                                      <p:cBhvr>
                                        <p:cTn id="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ottomPic" descr="IMG_2503.JPG"/>
          <p:cNvPicPr/>
          <p:nvPr/>
        </p:nvPicPr>
        <p:blipFill>
          <a:blip r:embed="rId1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2" name="BottomTrigger" descr="IMG_2503.JPG"/>
          <p:cNvPicPr/>
          <p:nvPr/>
        </p:nvPicPr>
        <p:blipFill>
          <a:blip r:embed="rId2"/>
          <a:stretch/>
        </p:blipFill>
        <p:spPr>
          <a:xfrm>
            <a:off x="152280" y="4956120"/>
            <a:ext cx="1743120" cy="1236600"/>
          </a:xfrm>
          <a:prstGeom prst="rect">
            <a:avLst/>
          </a:prstGeom>
          <a:ln w="0">
            <a:noFill/>
          </a:ln>
        </p:spPr>
      </p:pic>
      <p:pic>
        <p:nvPicPr>
          <p:cNvPr id="73" name="MidPic" descr="IMG_2510.JPG"/>
          <p:cNvPicPr/>
          <p:nvPr/>
        </p:nvPicPr>
        <p:blipFill>
          <a:blip r:embed="rId3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4" name="Mid Trigger" descr="IMG_2510.JPG"/>
          <p:cNvPicPr/>
          <p:nvPr/>
        </p:nvPicPr>
        <p:blipFill>
          <a:blip r:embed="rId4"/>
          <a:stretch/>
        </p:blipFill>
        <p:spPr>
          <a:xfrm>
            <a:off x="139680" y="2822400"/>
            <a:ext cx="174456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MiddleMask"/>
          <p:cNvSpPr/>
          <p:nvPr/>
        </p:nvSpPr>
        <p:spPr>
          <a:xfrm>
            <a:off x="192240" y="2847960"/>
            <a:ext cx="1657080" cy="114948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ottomMask"/>
          <p:cNvSpPr/>
          <p:nvPr/>
        </p:nvSpPr>
        <p:spPr>
          <a:xfrm>
            <a:off x="195120" y="4981680"/>
            <a:ext cx="165924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opPic" descr="IMG_2505.JPG"/>
          <p:cNvPicPr/>
          <p:nvPr/>
        </p:nvPicPr>
        <p:blipFill>
          <a:blip r:embed="rId5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8" name="Top Trigger" descr="IMG_2505.JPG"/>
          <p:cNvPicPr/>
          <p:nvPr/>
        </p:nvPicPr>
        <p:blipFill>
          <a:blip r:embed="rId6"/>
          <a:stretch/>
        </p:blipFill>
        <p:spPr>
          <a:xfrm>
            <a:off x="158760" y="701640"/>
            <a:ext cx="1743120" cy="1236600"/>
          </a:xfrm>
          <a:prstGeom prst="rect">
            <a:avLst/>
          </a:prstGeom>
          <a:ln w="0">
            <a:noFill/>
          </a:ln>
        </p:spPr>
      </p:pic>
      <p:sp>
        <p:nvSpPr>
          <p:cNvPr id="79" name="TopMask"/>
          <p:cNvSpPr/>
          <p:nvPr/>
        </p:nvSpPr>
        <p:spPr>
          <a:xfrm>
            <a:off x="200160" y="735120"/>
            <a:ext cx="165888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071880" y="65008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to Album using Instan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ction Button: End 11">
            <a:hlinkClick r:id="" action="ppaction://hlinkshowjump?jump=endshow"/>
          </p:cNvPr>
          <p:cNvSpPr/>
          <p:nvPr/>
        </p:nvSpPr>
        <p:spPr>
          <a:xfrm>
            <a:off x="82152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19690" y="10800"/>
                </a:moveTo>
                <a:lnTo>
                  <a:pt x="9184" y="17806"/>
                </a:lnTo>
                <a:lnTo>
                  <a:pt x="9184" y="3794"/>
                </a:lnTo>
                <a:close/>
              </a:path>
              <a:path fill="darken" w="32382" h="21600">
                <a:moveTo>
                  <a:pt x="21535" y="3794"/>
                </a:moveTo>
                <a:lnTo>
                  <a:pt x="21535" y="17806"/>
                </a:lnTo>
                <a:lnTo>
                  <a:pt x="23197" y="17806"/>
                </a:lnTo>
                <a:lnTo>
                  <a:pt x="23197" y="37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7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65 -0.44283 L -0.02994 -0.75322 E">
                                      <p:cBhvr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54 -0.75369 L -0.02952 -0.75231 E">
                                      <p:cBhvr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8 -1.06319 L -0.02944 -0.75208 E">
                                      <p:cBhvr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12:12Z</dcterms:created>
  <dc:creator>John</dc:creator>
  <dc:description/>
  <dc:language>en-US</dc:language>
  <cp:lastModifiedBy>Trish Pemberton</cp:lastModifiedBy>
  <dcterms:modified xsi:type="dcterms:W3CDTF">2009-09-23T09:53:45Z</dcterms:modified>
  <cp:revision>32</cp:revision>
  <dc:subject/>
  <dc:title>Slide 1</dc:title>
</cp:coreProperties>
</file>