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A1E4-8FDC-43E1-8946-344C2F4224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8A38-AA74-4D17-92A2-19AFA2036F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94C-52C0-4D07-8D58-84746A6D63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FB1-4715-47D7-BD09-46A6F461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97F-A4B3-4A15-B3BD-524E4F37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938-5856-48F2-987E-BCBF1F3E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3FC-D5DE-4DC3-9427-1BD63A7C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633-DCE5-4AAE-9EA8-720E87E2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ADA-2F58-4AAB-B5F6-CE2B05F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ED9-8E84-40C2-BB76-B6A95DD8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50C-0565-448C-9F4E-6E83925C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6B7-5798-43C8-A839-F7D76148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624-182D-402B-9557-FF693DE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1F8-891E-428B-A094-A3AB997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0CE-B47C-404B-A18C-6C56C5F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FEB8-9D55-4F93-B391-C5F832D5D3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ction Button: Custom 3"/>
          <p:cNvSpPr/>
          <p:nvPr/>
        </p:nvSpPr>
        <p:spPr>
          <a:xfrm>
            <a:off x="1057320" y="5000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ction Button: Custom 4"/>
          <p:cNvSpPr/>
          <p:nvPr/>
        </p:nvSpPr>
        <p:spPr>
          <a:xfrm>
            <a:off x="1947960" y="5000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ction Button: Custom 5"/>
          <p:cNvSpPr/>
          <p:nvPr/>
        </p:nvSpPr>
        <p:spPr>
          <a:xfrm>
            <a:off x="2838600" y="5000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ction Button: Custom 6">
            <a:hlinkClick r:id="" action="ppaction://hlinkshowjump?jump=nextslide"/>
          </p:cNvPr>
          <p:cNvSpPr/>
          <p:nvPr/>
        </p:nvSpPr>
        <p:spPr>
          <a:xfrm>
            <a:off x="3730680" y="4856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on Button: Custom 7"/>
          <p:cNvSpPr/>
          <p:nvPr/>
        </p:nvSpPr>
        <p:spPr>
          <a:xfrm>
            <a:off x="1057320" y="50004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ction Button: Custom 9"/>
          <p:cNvSpPr/>
          <p:nvPr/>
        </p:nvSpPr>
        <p:spPr>
          <a:xfrm>
            <a:off x="3730680" y="498600"/>
            <a:ext cx="842760" cy="728640"/>
          </a:xfrm>
          <a:custGeom>
            <a:avLst/>
            <a:gdLst>
              <a:gd name="textAreaLeft" fmla="*/ 47160 w 842760"/>
              <a:gd name="textAreaRight" fmla="*/ 795600 w 84276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023840" y="326880"/>
            <a:ext cx="3570480" cy="1117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RONG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You mad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2:10:14Z</dcterms:created>
  <dc:creator>JohnnyW</dc:creator>
  <dc:description/>
  <dc:language>en-US</dc:language>
  <cp:lastModifiedBy>JohnnyW</cp:lastModifiedBy>
  <dcterms:modified xsi:type="dcterms:W3CDTF">2009-09-17T13:05:56Z</dcterms:modified>
  <cp:revision>1</cp:revision>
  <dc:subject/>
  <dc:title>Slide 1</dc:title>
</cp:coreProperties>
</file>