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05BA-3276-4B33-872A-FEE2211D2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401A-2843-48DB-B6C4-7EFF7747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E376-9642-45E4-98B2-9F4EE65CE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6009-9E1C-4496-A171-1B9616DB8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0EFD-C760-4DA1-9E3B-A39CF156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8D55-E1D0-4D39-9302-0DC6F7F0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26E2-E805-47A8-96E6-3AB96384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D3DF-3504-4056-960F-8FAC8AE0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DD02-5242-4973-833E-B544762F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CF97-339F-43E1-A47A-421273D1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74FB-4888-4191-BB04-11EE6545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6FC7-3D70-4004-B61A-BBB2DE94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B376-3AA7-4256-8664-AA7E5461A80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miley Face 18"/>
          <p:cNvSpPr/>
          <p:nvPr/>
        </p:nvSpPr>
        <p:spPr>
          <a:xfrm>
            <a:off x="838080" y="6858000"/>
            <a:ext cx="609840" cy="45720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miley Face 19"/>
          <p:cNvSpPr/>
          <p:nvPr/>
        </p:nvSpPr>
        <p:spPr>
          <a:xfrm>
            <a:off x="1219320" y="609480"/>
            <a:ext cx="2057400" cy="19814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ight Triangle 20"/>
          <p:cNvSpPr/>
          <p:nvPr/>
        </p:nvSpPr>
        <p:spPr>
          <a:xfrm rot="10800000">
            <a:off x="6477120" y="0"/>
            <a:ext cx="2666880" cy="228600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21"/>
          <p:cNvSpPr/>
          <p:nvPr/>
        </p:nvSpPr>
        <p:spPr>
          <a:xfrm>
            <a:off x="5181480" y="198108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ouse Over Top Right Cor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22"/>
          <p:cNvSpPr/>
          <p:nvPr/>
        </p:nvSpPr>
        <p:spPr>
          <a:xfrm>
            <a:off x="3662280" y="36576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GAIN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3"/>
          <p:cNvSpPr/>
          <p:nvPr/>
        </p:nvSpPr>
        <p:spPr>
          <a:xfrm>
            <a:off x="3429000" y="4343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ND AGAIN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evt="onClick">
                          <p:tgtEl>
                            <p:spTgt spid="41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evt="onClick">
                          <p:tgtEl>
                            <p:spTgt spid="41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7T08:15:27Z</dcterms:created>
  <dc:creator>John</dc:creator>
  <dc:description/>
  <dc:language>en-US</dc:language>
  <cp:lastModifiedBy>John</cp:lastModifiedBy>
  <dcterms:modified xsi:type="dcterms:W3CDTF">2010-07-27T08:56:28Z</dcterms:modified>
  <cp:revision>5</cp:revision>
  <dc:subject/>
  <dc:title>Slide 1</dc:title>
</cp:coreProperties>
</file>