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A8B-CAFE-4E90-A60D-4E521FF4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DF4-9CAB-4F53-9E0A-AB95CF6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5CE-4354-4909-AE64-C69CE6B5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BA4-CA54-4D02-8723-D38DC204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F64-A998-4DA5-82D4-336805A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CC6-A597-4338-AB8C-128F9CCB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E28-BB8E-4A26-8B5E-844F26D2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165-7586-45A1-8B2C-DDF65B4F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FC8-9410-46BA-A86F-582169AB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FDE-59D6-4939-B694-014995F9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453-FF98-49FA-81A5-3382364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FAD-D810-41F7-92FC-9FBB5C6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23D2-5AE8-42F1-A899-476DE14FEB0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all"/>
          <p:cNvSpPr/>
          <p:nvPr/>
        </p:nvSpPr>
        <p:spPr>
          <a:xfrm rot="5400000">
            <a:off x="2698560" y="65880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own"/>
          <p:cNvSpPr/>
          <p:nvPr/>
        </p:nvSpPr>
        <p:spPr>
          <a:xfrm>
            <a:off x="6929280" y="5715000"/>
            <a:ext cx="71460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"/>
          <p:cNvSpPr/>
          <p:nvPr/>
        </p:nvSpPr>
        <p:spPr>
          <a:xfrm rot="16200000">
            <a:off x="7608240" y="510768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"/>
          <p:cNvSpPr/>
          <p:nvPr/>
        </p:nvSpPr>
        <p:spPr>
          <a:xfrm rot="10800000">
            <a:off x="6928920" y="4500720"/>
            <a:ext cx="71460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"/>
          <p:cNvSpPr/>
          <p:nvPr/>
        </p:nvSpPr>
        <p:spPr>
          <a:xfrm rot="5400000">
            <a:off x="6250320" y="5107680"/>
            <a:ext cx="714240" cy="642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8:53:15Z</dcterms:created>
  <dc:creator>John Wilson</dc:creator>
  <dc:description/>
  <dc:language>en-US</dc:language>
  <cp:lastModifiedBy>John Wilson</cp:lastModifiedBy>
  <dcterms:modified xsi:type="dcterms:W3CDTF">2008-06-06T09:55:06Z</dcterms:modified>
  <cp:revision>7</cp:revision>
  <dc:subject/>
  <dc:title>Slide 1</dc:title>
</cp:coreProperties>
</file>