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465-7A73-4006-92C0-C2B42873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242-F856-49E3-97B3-95D5F94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C72-A3C9-413C-A1A9-5EFA697B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B8B-5C60-4DAE-8932-54CFB6C8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B55-FDD5-46DD-8D54-774FD508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603-4F11-4E6D-9F78-3CCE9D86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BED-0E21-4913-A33E-8BA6BC12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805-D585-4546-AA7B-442F011E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EA3-0533-4A5C-B868-3EBC83F6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95E-A05A-4803-8378-E428958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E4C-5EE1-4CF7-806A-5A37A4F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2F8-4C32-4059-83AA-B69D692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DF6E-DE0E-4A62-97C7-C9917B750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33712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2887560" cy="440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2337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6:01:19Z</dcterms:created>
  <dc:creator>Technology Trish</dc:creator>
  <dc:description/>
  <dc:language>en-US</dc:language>
  <cp:lastModifiedBy>Technology Trish</cp:lastModifiedBy>
  <dcterms:modified xsi:type="dcterms:W3CDTF">2007-02-13T06:16:52Z</dcterms:modified>
  <cp:revision>2</cp:revision>
  <dc:subject/>
  <dc:title>Slide 1</dc:title>
</cp:coreProperties>
</file>