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93C4-6468-46A8-9488-2B0103239C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744F-AFDF-42C2-995F-B85549F1D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296-C6AC-492D-B8A4-41E2C8E6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8B3-E1A4-47FA-AE4F-F90FDEDA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2D7-E85C-4DA8-A29F-AA9EB8C7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46F-56B4-4D60-9DAE-92E80B31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3624-CC76-4B3E-BD69-AF7BFCD0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7CD7-E757-4659-9F00-A5D0978B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73D-A0BF-4129-99E6-E98D4DEF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493-8068-40AD-915E-CF01DA65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60F-B55E-4959-9D27-E8D959DF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AC2-7C96-4A84-872E-26157C74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E14-3588-4FA9-98D5-02C914BA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9E7-46D3-4305-AC6D-173ADA81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88DC-BE62-4AD1-9042-B8EFAC2EE61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7"/>
          <p:cNvSpPr/>
          <p:nvPr/>
        </p:nvSpPr>
        <p:spPr>
          <a:xfrm>
            <a:off x="4572000" y="3043080"/>
            <a:ext cx="3886200" cy="10573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o city selecte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1523880" y="1647720"/>
            <a:ext cx="3048120" cy="464832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4648320"/>
              <a:gd name="textAreaBottom" fmla="*/ 4648680 h 4648320"/>
            </a:gdLst>
            <a:ahLst/>
            <a:rect l="textAreaLeft" t="textAreaTop" r="textAreaRight" b="textAreaBottom"/>
            <a:pathLst>
              <a:path w="666" h="1016">
                <a:moveTo>
                  <a:pt x="329" y="128"/>
                </a:moveTo>
                <a:lnTo>
                  <a:pt x="354" y="104"/>
                </a:lnTo>
                <a:lnTo>
                  <a:pt x="337" y="96"/>
                </a:lnTo>
                <a:lnTo>
                  <a:pt x="388" y="64"/>
                </a:lnTo>
                <a:lnTo>
                  <a:pt x="413" y="56"/>
                </a:lnTo>
                <a:lnTo>
                  <a:pt x="421" y="24"/>
                </a:lnTo>
                <a:lnTo>
                  <a:pt x="320" y="16"/>
                </a:lnTo>
                <a:lnTo>
                  <a:pt x="287" y="0"/>
                </a:lnTo>
                <a:lnTo>
                  <a:pt x="270" y="24"/>
                </a:lnTo>
                <a:lnTo>
                  <a:pt x="253" y="40"/>
                </a:lnTo>
                <a:lnTo>
                  <a:pt x="245" y="56"/>
                </a:lnTo>
                <a:lnTo>
                  <a:pt x="253" y="80"/>
                </a:lnTo>
                <a:lnTo>
                  <a:pt x="219" y="88"/>
                </a:lnTo>
                <a:lnTo>
                  <a:pt x="202" y="104"/>
                </a:lnTo>
                <a:lnTo>
                  <a:pt x="202" y="136"/>
                </a:lnTo>
                <a:lnTo>
                  <a:pt x="202" y="160"/>
                </a:lnTo>
                <a:lnTo>
                  <a:pt x="186" y="184"/>
                </a:lnTo>
                <a:lnTo>
                  <a:pt x="169" y="200"/>
                </a:lnTo>
                <a:lnTo>
                  <a:pt x="135" y="248"/>
                </a:lnTo>
                <a:lnTo>
                  <a:pt x="160" y="256"/>
                </a:lnTo>
                <a:lnTo>
                  <a:pt x="202" y="232"/>
                </a:lnTo>
                <a:lnTo>
                  <a:pt x="186" y="264"/>
                </a:lnTo>
                <a:lnTo>
                  <a:pt x="177" y="296"/>
                </a:lnTo>
                <a:lnTo>
                  <a:pt x="169" y="320"/>
                </a:lnTo>
                <a:lnTo>
                  <a:pt x="143" y="376"/>
                </a:lnTo>
                <a:lnTo>
                  <a:pt x="169" y="376"/>
                </a:lnTo>
                <a:lnTo>
                  <a:pt x="186" y="344"/>
                </a:lnTo>
                <a:lnTo>
                  <a:pt x="202" y="304"/>
                </a:lnTo>
                <a:lnTo>
                  <a:pt x="211" y="328"/>
                </a:lnTo>
                <a:lnTo>
                  <a:pt x="228" y="320"/>
                </a:lnTo>
                <a:lnTo>
                  <a:pt x="219" y="344"/>
                </a:lnTo>
                <a:lnTo>
                  <a:pt x="228" y="360"/>
                </a:lnTo>
                <a:lnTo>
                  <a:pt x="186" y="424"/>
                </a:lnTo>
                <a:lnTo>
                  <a:pt x="194" y="472"/>
                </a:lnTo>
                <a:lnTo>
                  <a:pt x="202" y="440"/>
                </a:lnTo>
                <a:lnTo>
                  <a:pt x="236" y="464"/>
                </a:lnTo>
                <a:lnTo>
                  <a:pt x="253" y="456"/>
                </a:lnTo>
                <a:lnTo>
                  <a:pt x="278" y="464"/>
                </a:lnTo>
                <a:lnTo>
                  <a:pt x="303" y="448"/>
                </a:lnTo>
                <a:lnTo>
                  <a:pt x="329" y="456"/>
                </a:lnTo>
                <a:lnTo>
                  <a:pt x="295" y="480"/>
                </a:lnTo>
                <a:lnTo>
                  <a:pt x="287" y="496"/>
                </a:lnTo>
                <a:lnTo>
                  <a:pt x="312" y="544"/>
                </a:lnTo>
                <a:lnTo>
                  <a:pt x="329" y="544"/>
                </a:lnTo>
                <a:lnTo>
                  <a:pt x="329" y="576"/>
                </a:lnTo>
                <a:lnTo>
                  <a:pt x="320" y="576"/>
                </a:lnTo>
                <a:lnTo>
                  <a:pt x="312" y="632"/>
                </a:lnTo>
                <a:lnTo>
                  <a:pt x="295" y="648"/>
                </a:lnTo>
                <a:lnTo>
                  <a:pt x="287" y="640"/>
                </a:lnTo>
                <a:lnTo>
                  <a:pt x="236" y="640"/>
                </a:lnTo>
                <a:lnTo>
                  <a:pt x="202" y="624"/>
                </a:lnTo>
                <a:lnTo>
                  <a:pt x="186" y="632"/>
                </a:lnTo>
                <a:lnTo>
                  <a:pt x="202" y="648"/>
                </a:lnTo>
                <a:lnTo>
                  <a:pt x="160" y="680"/>
                </a:lnTo>
                <a:lnTo>
                  <a:pt x="177" y="688"/>
                </a:lnTo>
                <a:lnTo>
                  <a:pt x="202" y="680"/>
                </a:lnTo>
                <a:lnTo>
                  <a:pt x="211" y="744"/>
                </a:lnTo>
                <a:lnTo>
                  <a:pt x="169" y="760"/>
                </a:lnTo>
                <a:lnTo>
                  <a:pt x="143" y="768"/>
                </a:lnTo>
                <a:lnTo>
                  <a:pt x="101" y="776"/>
                </a:lnTo>
                <a:lnTo>
                  <a:pt x="84" y="784"/>
                </a:lnTo>
                <a:lnTo>
                  <a:pt x="93" y="792"/>
                </a:lnTo>
                <a:lnTo>
                  <a:pt x="101" y="808"/>
                </a:lnTo>
                <a:lnTo>
                  <a:pt x="135" y="824"/>
                </a:lnTo>
                <a:lnTo>
                  <a:pt x="152" y="808"/>
                </a:lnTo>
                <a:lnTo>
                  <a:pt x="169" y="824"/>
                </a:lnTo>
                <a:lnTo>
                  <a:pt x="160" y="840"/>
                </a:lnTo>
                <a:lnTo>
                  <a:pt x="194" y="840"/>
                </a:lnTo>
                <a:lnTo>
                  <a:pt x="219" y="864"/>
                </a:lnTo>
                <a:lnTo>
                  <a:pt x="261" y="864"/>
                </a:lnTo>
                <a:lnTo>
                  <a:pt x="278" y="856"/>
                </a:lnTo>
                <a:lnTo>
                  <a:pt x="295" y="848"/>
                </a:lnTo>
                <a:lnTo>
                  <a:pt x="270" y="872"/>
                </a:lnTo>
                <a:lnTo>
                  <a:pt x="261" y="888"/>
                </a:lnTo>
                <a:lnTo>
                  <a:pt x="228" y="896"/>
                </a:lnTo>
                <a:lnTo>
                  <a:pt x="160" y="888"/>
                </a:lnTo>
                <a:lnTo>
                  <a:pt x="152" y="896"/>
                </a:lnTo>
                <a:lnTo>
                  <a:pt x="127" y="904"/>
                </a:lnTo>
                <a:lnTo>
                  <a:pt x="110" y="928"/>
                </a:lnTo>
                <a:lnTo>
                  <a:pt x="42" y="976"/>
                </a:lnTo>
                <a:lnTo>
                  <a:pt x="0" y="984"/>
                </a:lnTo>
                <a:lnTo>
                  <a:pt x="9" y="992"/>
                </a:lnTo>
                <a:lnTo>
                  <a:pt x="34" y="992"/>
                </a:lnTo>
                <a:lnTo>
                  <a:pt x="51" y="1016"/>
                </a:lnTo>
                <a:lnTo>
                  <a:pt x="68" y="1008"/>
                </a:lnTo>
                <a:lnTo>
                  <a:pt x="68" y="992"/>
                </a:lnTo>
                <a:lnTo>
                  <a:pt x="93" y="976"/>
                </a:lnTo>
                <a:lnTo>
                  <a:pt x="143" y="976"/>
                </a:lnTo>
                <a:lnTo>
                  <a:pt x="169" y="1008"/>
                </a:lnTo>
                <a:lnTo>
                  <a:pt x="219" y="960"/>
                </a:lnTo>
                <a:lnTo>
                  <a:pt x="261" y="952"/>
                </a:lnTo>
                <a:lnTo>
                  <a:pt x="295" y="976"/>
                </a:lnTo>
                <a:lnTo>
                  <a:pt x="337" y="984"/>
                </a:lnTo>
                <a:lnTo>
                  <a:pt x="346" y="968"/>
                </a:lnTo>
                <a:lnTo>
                  <a:pt x="388" y="968"/>
                </a:lnTo>
                <a:lnTo>
                  <a:pt x="421" y="968"/>
                </a:lnTo>
                <a:lnTo>
                  <a:pt x="472" y="968"/>
                </a:lnTo>
                <a:lnTo>
                  <a:pt x="506" y="984"/>
                </a:lnTo>
                <a:lnTo>
                  <a:pt x="573" y="968"/>
                </a:lnTo>
                <a:lnTo>
                  <a:pt x="590" y="952"/>
                </a:lnTo>
                <a:lnTo>
                  <a:pt x="624" y="952"/>
                </a:lnTo>
                <a:lnTo>
                  <a:pt x="624" y="928"/>
                </a:lnTo>
                <a:lnTo>
                  <a:pt x="565" y="912"/>
                </a:lnTo>
                <a:lnTo>
                  <a:pt x="590" y="896"/>
                </a:lnTo>
                <a:lnTo>
                  <a:pt x="590" y="872"/>
                </a:lnTo>
                <a:lnTo>
                  <a:pt x="624" y="872"/>
                </a:lnTo>
                <a:lnTo>
                  <a:pt x="624" y="856"/>
                </a:lnTo>
                <a:lnTo>
                  <a:pt x="649" y="840"/>
                </a:lnTo>
                <a:lnTo>
                  <a:pt x="657" y="816"/>
                </a:lnTo>
                <a:lnTo>
                  <a:pt x="666" y="800"/>
                </a:lnTo>
                <a:lnTo>
                  <a:pt x="666" y="760"/>
                </a:lnTo>
                <a:lnTo>
                  <a:pt x="582" y="728"/>
                </a:lnTo>
                <a:lnTo>
                  <a:pt x="565" y="744"/>
                </a:lnTo>
                <a:lnTo>
                  <a:pt x="539" y="728"/>
                </a:lnTo>
                <a:lnTo>
                  <a:pt x="573" y="704"/>
                </a:lnTo>
                <a:lnTo>
                  <a:pt x="556" y="656"/>
                </a:lnTo>
                <a:lnTo>
                  <a:pt x="523" y="632"/>
                </a:lnTo>
                <a:lnTo>
                  <a:pt x="548" y="632"/>
                </a:lnTo>
                <a:lnTo>
                  <a:pt x="539" y="592"/>
                </a:lnTo>
                <a:lnTo>
                  <a:pt x="539" y="576"/>
                </a:lnTo>
                <a:lnTo>
                  <a:pt x="531" y="560"/>
                </a:lnTo>
                <a:lnTo>
                  <a:pt x="523" y="536"/>
                </a:lnTo>
                <a:lnTo>
                  <a:pt x="480" y="512"/>
                </a:lnTo>
                <a:lnTo>
                  <a:pt x="472" y="480"/>
                </a:lnTo>
                <a:lnTo>
                  <a:pt x="455" y="440"/>
                </a:lnTo>
                <a:lnTo>
                  <a:pt x="455" y="392"/>
                </a:lnTo>
                <a:lnTo>
                  <a:pt x="447" y="376"/>
                </a:lnTo>
                <a:lnTo>
                  <a:pt x="421" y="352"/>
                </a:lnTo>
                <a:lnTo>
                  <a:pt x="413" y="344"/>
                </a:lnTo>
                <a:lnTo>
                  <a:pt x="396" y="328"/>
                </a:lnTo>
                <a:lnTo>
                  <a:pt x="362" y="328"/>
                </a:lnTo>
                <a:lnTo>
                  <a:pt x="337" y="320"/>
                </a:lnTo>
                <a:lnTo>
                  <a:pt x="371" y="312"/>
                </a:lnTo>
                <a:lnTo>
                  <a:pt x="396" y="304"/>
                </a:lnTo>
                <a:lnTo>
                  <a:pt x="388" y="280"/>
                </a:lnTo>
                <a:lnTo>
                  <a:pt x="421" y="264"/>
                </a:lnTo>
                <a:lnTo>
                  <a:pt x="421" y="248"/>
                </a:lnTo>
                <a:lnTo>
                  <a:pt x="447" y="224"/>
                </a:lnTo>
                <a:lnTo>
                  <a:pt x="455" y="192"/>
                </a:lnTo>
                <a:lnTo>
                  <a:pt x="489" y="168"/>
                </a:lnTo>
                <a:lnTo>
                  <a:pt x="489" y="144"/>
                </a:lnTo>
                <a:lnTo>
                  <a:pt x="447" y="144"/>
                </a:lnTo>
                <a:lnTo>
                  <a:pt x="430" y="128"/>
                </a:lnTo>
                <a:lnTo>
                  <a:pt x="379" y="120"/>
                </a:lnTo>
                <a:lnTo>
                  <a:pt x="329" y="128"/>
                </a:lnTo>
                <a:close/>
              </a:path>
            </a:pathLst>
          </a:custGeom>
          <a:solidFill>
            <a:srgbClr val="376092"/>
          </a:solidFill>
          <a:ln w="76320">
            <a:solidFill>
              <a:srgbClr val="ffff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reeform 8"/>
          <p:cNvSpPr/>
          <p:nvPr/>
        </p:nvSpPr>
        <p:spPr>
          <a:xfrm>
            <a:off x="1523880" y="1647720"/>
            <a:ext cx="3048120" cy="464832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4648320"/>
              <a:gd name="textAreaBottom" fmla="*/ 4648680 h 4648320"/>
            </a:gdLst>
            <a:ahLst/>
            <a:rect l="textAreaLeft" t="textAreaTop" r="textAreaRight" b="textAreaBottom"/>
            <a:pathLst>
              <a:path w="666" h="1016">
                <a:moveTo>
                  <a:pt x="329" y="128"/>
                </a:moveTo>
                <a:lnTo>
                  <a:pt x="354" y="104"/>
                </a:lnTo>
                <a:lnTo>
                  <a:pt x="337" y="96"/>
                </a:lnTo>
                <a:lnTo>
                  <a:pt x="388" y="64"/>
                </a:lnTo>
                <a:lnTo>
                  <a:pt x="413" y="56"/>
                </a:lnTo>
                <a:lnTo>
                  <a:pt x="421" y="24"/>
                </a:lnTo>
                <a:lnTo>
                  <a:pt x="320" y="16"/>
                </a:lnTo>
                <a:lnTo>
                  <a:pt x="287" y="0"/>
                </a:lnTo>
                <a:lnTo>
                  <a:pt x="270" y="24"/>
                </a:lnTo>
                <a:lnTo>
                  <a:pt x="253" y="40"/>
                </a:lnTo>
                <a:lnTo>
                  <a:pt x="245" y="56"/>
                </a:lnTo>
                <a:lnTo>
                  <a:pt x="253" y="80"/>
                </a:lnTo>
                <a:lnTo>
                  <a:pt x="219" y="88"/>
                </a:lnTo>
                <a:lnTo>
                  <a:pt x="202" y="104"/>
                </a:lnTo>
                <a:lnTo>
                  <a:pt x="202" y="136"/>
                </a:lnTo>
                <a:lnTo>
                  <a:pt x="202" y="160"/>
                </a:lnTo>
                <a:lnTo>
                  <a:pt x="186" y="184"/>
                </a:lnTo>
                <a:lnTo>
                  <a:pt x="169" y="200"/>
                </a:lnTo>
                <a:lnTo>
                  <a:pt x="135" y="248"/>
                </a:lnTo>
                <a:lnTo>
                  <a:pt x="160" y="256"/>
                </a:lnTo>
                <a:lnTo>
                  <a:pt x="202" y="232"/>
                </a:lnTo>
                <a:lnTo>
                  <a:pt x="186" y="264"/>
                </a:lnTo>
                <a:lnTo>
                  <a:pt x="177" y="296"/>
                </a:lnTo>
                <a:lnTo>
                  <a:pt x="169" y="320"/>
                </a:lnTo>
                <a:lnTo>
                  <a:pt x="143" y="376"/>
                </a:lnTo>
                <a:lnTo>
                  <a:pt x="169" y="376"/>
                </a:lnTo>
                <a:lnTo>
                  <a:pt x="186" y="344"/>
                </a:lnTo>
                <a:lnTo>
                  <a:pt x="202" y="304"/>
                </a:lnTo>
                <a:lnTo>
                  <a:pt x="211" y="328"/>
                </a:lnTo>
                <a:lnTo>
                  <a:pt x="228" y="320"/>
                </a:lnTo>
                <a:lnTo>
                  <a:pt x="219" y="344"/>
                </a:lnTo>
                <a:lnTo>
                  <a:pt x="228" y="360"/>
                </a:lnTo>
                <a:lnTo>
                  <a:pt x="186" y="424"/>
                </a:lnTo>
                <a:lnTo>
                  <a:pt x="194" y="472"/>
                </a:lnTo>
                <a:lnTo>
                  <a:pt x="202" y="440"/>
                </a:lnTo>
                <a:lnTo>
                  <a:pt x="236" y="464"/>
                </a:lnTo>
                <a:lnTo>
                  <a:pt x="253" y="456"/>
                </a:lnTo>
                <a:lnTo>
                  <a:pt x="278" y="464"/>
                </a:lnTo>
                <a:lnTo>
                  <a:pt x="303" y="448"/>
                </a:lnTo>
                <a:lnTo>
                  <a:pt x="329" y="456"/>
                </a:lnTo>
                <a:lnTo>
                  <a:pt x="295" y="480"/>
                </a:lnTo>
                <a:lnTo>
                  <a:pt x="287" y="496"/>
                </a:lnTo>
                <a:lnTo>
                  <a:pt x="312" y="544"/>
                </a:lnTo>
                <a:lnTo>
                  <a:pt x="329" y="544"/>
                </a:lnTo>
                <a:lnTo>
                  <a:pt x="329" y="576"/>
                </a:lnTo>
                <a:lnTo>
                  <a:pt x="320" y="576"/>
                </a:lnTo>
                <a:lnTo>
                  <a:pt x="312" y="632"/>
                </a:lnTo>
                <a:lnTo>
                  <a:pt x="295" y="648"/>
                </a:lnTo>
                <a:lnTo>
                  <a:pt x="287" y="640"/>
                </a:lnTo>
                <a:lnTo>
                  <a:pt x="236" y="640"/>
                </a:lnTo>
                <a:lnTo>
                  <a:pt x="202" y="624"/>
                </a:lnTo>
                <a:lnTo>
                  <a:pt x="186" y="632"/>
                </a:lnTo>
                <a:lnTo>
                  <a:pt x="202" y="648"/>
                </a:lnTo>
                <a:lnTo>
                  <a:pt x="160" y="680"/>
                </a:lnTo>
                <a:lnTo>
                  <a:pt x="177" y="688"/>
                </a:lnTo>
                <a:lnTo>
                  <a:pt x="202" y="680"/>
                </a:lnTo>
                <a:lnTo>
                  <a:pt x="211" y="744"/>
                </a:lnTo>
                <a:lnTo>
                  <a:pt x="169" y="760"/>
                </a:lnTo>
                <a:lnTo>
                  <a:pt x="143" y="768"/>
                </a:lnTo>
                <a:lnTo>
                  <a:pt x="101" y="776"/>
                </a:lnTo>
                <a:lnTo>
                  <a:pt x="84" y="784"/>
                </a:lnTo>
                <a:lnTo>
                  <a:pt x="93" y="792"/>
                </a:lnTo>
                <a:lnTo>
                  <a:pt x="101" y="808"/>
                </a:lnTo>
                <a:lnTo>
                  <a:pt x="135" y="824"/>
                </a:lnTo>
                <a:lnTo>
                  <a:pt x="152" y="808"/>
                </a:lnTo>
                <a:lnTo>
                  <a:pt x="169" y="824"/>
                </a:lnTo>
                <a:lnTo>
                  <a:pt x="160" y="840"/>
                </a:lnTo>
                <a:lnTo>
                  <a:pt x="194" y="840"/>
                </a:lnTo>
                <a:lnTo>
                  <a:pt x="219" y="864"/>
                </a:lnTo>
                <a:lnTo>
                  <a:pt x="261" y="864"/>
                </a:lnTo>
                <a:lnTo>
                  <a:pt x="278" y="856"/>
                </a:lnTo>
                <a:lnTo>
                  <a:pt x="295" y="848"/>
                </a:lnTo>
                <a:lnTo>
                  <a:pt x="270" y="872"/>
                </a:lnTo>
                <a:lnTo>
                  <a:pt x="261" y="888"/>
                </a:lnTo>
                <a:lnTo>
                  <a:pt x="228" y="896"/>
                </a:lnTo>
                <a:lnTo>
                  <a:pt x="160" y="888"/>
                </a:lnTo>
                <a:lnTo>
                  <a:pt x="152" y="896"/>
                </a:lnTo>
                <a:lnTo>
                  <a:pt x="127" y="904"/>
                </a:lnTo>
                <a:lnTo>
                  <a:pt x="110" y="928"/>
                </a:lnTo>
                <a:lnTo>
                  <a:pt x="42" y="976"/>
                </a:lnTo>
                <a:lnTo>
                  <a:pt x="0" y="984"/>
                </a:lnTo>
                <a:lnTo>
                  <a:pt x="9" y="992"/>
                </a:lnTo>
                <a:lnTo>
                  <a:pt x="34" y="992"/>
                </a:lnTo>
                <a:lnTo>
                  <a:pt x="51" y="1016"/>
                </a:lnTo>
                <a:lnTo>
                  <a:pt x="68" y="1008"/>
                </a:lnTo>
                <a:lnTo>
                  <a:pt x="68" y="992"/>
                </a:lnTo>
                <a:lnTo>
                  <a:pt x="93" y="976"/>
                </a:lnTo>
                <a:lnTo>
                  <a:pt x="143" y="976"/>
                </a:lnTo>
                <a:lnTo>
                  <a:pt x="169" y="1008"/>
                </a:lnTo>
                <a:lnTo>
                  <a:pt x="219" y="960"/>
                </a:lnTo>
                <a:lnTo>
                  <a:pt x="261" y="952"/>
                </a:lnTo>
                <a:lnTo>
                  <a:pt x="295" y="976"/>
                </a:lnTo>
                <a:lnTo>
                  <a:pt x="337" y="984"/>
                </a:lnTo>
                <a:lnTo>
                  <a:pt x="346" y="968"/>
                </a:lnTo>
                <a:lnTo>
                  <a:pt x="388" y="968"/>
                </a:lnTo>
                <a:lnTo>
                  <a:pt x="421" y="968"/>
                </a:lnTo>
                <a:lnTo>
                  <a:pt x="472" y="968"/>
                </a:lnTo>
                <a:lnTo>
                  <a:pt x="506" y="984"/>
                </a:lnTo>
                <a:lnTo>
                  <a:pt x="573" y="968"/>
                </a:lnTo>
                <a:lnTo>
                  <a:pt x="590" y="952"/>
                </a:lnTo>
                <a:lnTo>
                  <a:pt x="624" y="952"/>
                </a:lnTo>
                <a:lnTo>
                  <a:pt x="624" y="928"/>
                </a:lnTo>
                <a:lnTo>
                  <a:pt x="565" y="912"/>
                </a:lnTo>
                <a:lnTo>
                  <a:pt x="590" y="896"/>
                </a:lnTo>
                <a:lnTo>
                  <a:pt x="590" y="872"/>
                </a:lnTo>
                <a:lnTo>
                  <a:pt x="624" y="872"/>
                </a:lnTo>
                <a:lnTo>
                  <a:pt x="624" y="856"/>
                </a:lnTo>
                <a:lnTo>
                  <a:pt x="649" y="840"/>
                </a:lnTo>
                <a:lnTo>
                  <a:pt x="657" y="816"/>
                </a:lnTo>
                <a:lnTo>
                  <a:pt x="666" y="800"/>
                </a:lnTo>
                <a:lnTo>
                  <a:pt x="666" y="760"/>
                </a:lnTo>
                <a:lnTo>
                  <a:pt x="582" y="728"/>
                </a:lnTo>
                <a:lnTo>
                  <a:pt x="565" y="744"/>
                </a:lnTo>
                <a:lnTo>
                  <a:pt x="539" y="728"/>
                </a:lnTo>
                <a:lnTo>
                  <a:pt x="573" y="704"/>
                </a:lnTo>
                <a:lnTo>
                  <a:pt x="556" y="656"/>
                </a:lnTo>
                <a:lnTo>
                  <a:pt x="523" y="632"/>
                </a:lnTo>
                <a:lnTo>
                  <a:pt x="548" y="632"/>
                </a:lnTo>
                <a:lnTo>
                  <a:pt x="539" y="592"/>
                </a:lnTo>
                <a:lnTo>
                  <a:pt x="539" y="576"/>
                </a:lnTo>
                <a:lnTo>
                  <a:pt x="531" y="560"/>
                </a:lnTo>
                <a:lnTo>
                  <a:pt x="523" y="536"/>
                </a:lnTo>
                <a:lnTo>
                  <a:pt x="480" y="512"/>
                </a:lnTo>
                <a:lnTo>
                  <a:pt x="472" y="480"/>
                </a:lnTo>
                <a:lnTo>
                  <a:pt x="455" y="440"/>
                </a:lnTo>
                <a:lnTo>
                  <a:pt x="455" y="392"/>
                </a:lnTo>
                <a:lnTo>
                  <a:pt x="447" y="376"/>
                </a:lnTo>
                <a:lnTo>
                  <a:pt x="421" y="352"/>
                </a:lnTo>
                <a:lnTo>
                  <a:pt x="413" y="344"/>
                </a:lnTo>
                <a:lnTo>
                  <a:pt x="396" y="328"/>
                </a:lnTo>
                <a:lnTo>
                  <a:pt x="362" y="328"/>
                </a:lnTo>
                <a:lnTo>
                  <a:pt x="337" y="320"/>
                </a:lnTo>
                <a:lnTo>
                  <a:pt x="371" y="312"/>
                </a:lnTo>
                <a:lnTo>
                  <a:pt x="396" y="304"/>
                </a:lnTo>
                <a:lnTo>
                  <a:pt x="388" y="280"/>
                </a:lnTo>
                <a:lnTo>
                  <a:pt x="421" y="264"/>
                </a:lnTo>
                <a:lnTo>
                  <a:pt x="421" y="248"/>
                </a:lnTo>
                <a:lnTo>
                  <a:pt x="447" y="224"/>
                </a:lnTo>
                <a:lnTo>
                  <a:pt x="455" y="192"/>
                </a:lnTo>
                <a:lnTo>
                  <a:pt x="489" y="168"/>
                </a:lnTo>
                <a:lnTo>
                  <a:pt x="489" y="144"/>
                </a:lnTo>
                <a:lnTo>
                  <a:pt x="447" y="144"/>
                </a:lnTo>
                <a:lnTo>
                  <a:pt x="430" y="128"/>
                </a:lnTo>
                <a:lnTo>
                  <a:pt x="379" y="120"/>
                </a:lnTo>
                <a:lnTo>
                  <a:pt x="329" y="128"/>
                </a:lnTo>
                <a:close/>
              </a:path>
            </a:pathLst>
          </a:custGeom>
          <a:noFill/>
          <a:ln w="2844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red"/>
          <p:cNvPicPr/>
          <p:nvPr/>
        </p:nvPicPr>
        <p:blipFill>
          <a:blip r:embed="rId1"/>
          <a:stretch/>
        </p:blipFill>
        <p:spPr>
          <a:xfrm>
            <a:off x="1930320" y="4811760"/>
            <a:ext cx="889200" cy="722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green"/>
          <p:cNvPicPr/>
          <p:nvPr/>
        </p:nvPicPr>
        <p:blipFill>
          <a:blip r:embed="rId2"/>
          <a:stretch/>
        </p:blipFill>
        <p:spPr>
          <a:xfrm>
            <a:off x="3276720" y="5076720"/>
            <a:ext cx="888840" cy="72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purple"/>
          <p:cNvPicPr/>
          <p:nvPr/>
        </p:nvPicPr>
        <p:blipFill>
          <a:blip r:embed="rId3"/>
          <a:stretch/>
        </p:blipFill>
        <p:spPr>
          <a:xfrm>
            <a:off x="2540160" y="2602080"/>
            <a:ext cx="888840" cy="722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76092"/>
                </a:solidFill>
                <a:latin typeface="Arial"/>
                <a:ea typeface="Arial"/>
              </a:rPr>
              <a:t>Capital C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8"/>
          <p:cNvSpPr/>
          <p:nvPr/>
        </p:nvSpPr>
        <p:spPr>
          <a:xfrm>
            <a:off x="2943360" y="2900520"/>
            <a:ext cx="657000" cy="642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val 9"/>
          <p:cNvSpPr/>
          <p:nvPr/>
        </p:nvSpPr>
        <p:spPr>
          <a:xfrm>
            <a:off x="3638520" y="5367240"/>
            <a:ext cx="657360" cy="642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2324160" y="5038560"/>
            <a:ext cx="657000" cy="642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7:49:34Z</dcterms:created>
  <dc:creator>JohnnyW</dc:creator>
  <dc:description/>
  <dc:language>en-US</dc:language>
  <cp:lastModifiedBy>JohnnyW</cp:lastModifiedBy>
  <dcterms:modified xsi:type="dcterms:W3CDTF">2009-09-15T08:02:19Z</dcterms:modified>
  <cp:revision>1</cp:revision>
  <dc:subject/>
  <dc:title>Capital Cities</dc:title>
</cp:coreProperties>
</file>