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  <p:custShowLst>
    <p:custShow name="zoom man" id="0">
      <p:sldLst>
        <p:sld r:id="rId6"/>
        <p:sld r:id="rId7"/>
      </p:sldLst>
    </p:custShow>
    <p:custShow name="zoom woman" id="1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3AC-64ED-4BE4-8FD7-93BBE0CB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C15-CBF6-4085-BE51-83A2230B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149-BC5E-4547-8046-7F6722DA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84E-8930-497E-B04D-6C9FB452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8D2-0274-4E33-8CCF-65770099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14B-CAB2-43B3-8E3A-5FD1E107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806-B8F5-48A0-8F1F-1D064D14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3529-1347-4BE1-B2C4-34F2A6EE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F3E-2103-4AEC-B76B-5699E939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564-65F6-4779-B882-CD971429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A59-75BF-4D81-B2F3-D6E80123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3A7-A3AC-4D40-B31E-A518362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1F5F-7C11-465C-8365-37FBCDDEC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48000" y="1622520"/>
            <a:ext cx="4248000" cy="3612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2060640"/>
            <a:ext cx="1224000" cy="1368360"/>
          </a:xfrm>
          <a:prstGeom prst="ellipse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08720" y="1484280"/>
            <a:ext cx="1224000" cy="1368360"/>
          </a:xfrm>
          <a:prstGeom prst="ellipse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48000" y="1622520"/>
            <a:ext cx="4248000" cy="361296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572000" y="836640"/>
            <a:ext cx="3313080" cy="29527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1123920"/>
            <a:ext cx="2305080" cy="230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48000" y="1622520"/>
            <a:ext cx="4248000" cy="3612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76720" y="1123920"/>
            <a:ext cx="2305080" cy="230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48000" y="1622520"/>
            <a:ext cx="4248000" cy="361296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258920" y="981000"/>
            <a:ext cx="3313080" cy="29527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1341360"/>
            <a:ext cx="2305080" cy="230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48000" y="1622520"/>
            <a:ext cx="4248000" cy="3612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58920" y="981000"/>
            <a:ext cx="3313080" cy="29527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341360"/>
            <a:ext cx="2305080" cy="2305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08:20:45Z</dcterms:created>
  <dc:creator>Technology Trish</dc:creator>
  <dc:description/>
  <dc:language>en-US</dc:language>
  <cp:lastModifiedBy>Technology Trish</cp:lastModifiedBy>
  <dcterms:modified xsi:type="dcterms:W3CDTF">2007-02-14T08:32:07Z</dcterms:modified>
  <cp:revision>2</cp:revision>
  <dc:subject/>
  <dc:title>Slide 1</dc:title>
</cp:coreProperties>
</file>