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reeze.wav" ContentType="audio/x-wav"/>
  <Override PartName="/ppt/media/image2.wmf" ContentType="image/x-wmf"/>
  <Override PartName="/ppt/media/image3.wmf" ContentType="image/x-wmf"/>
  <Override PartName="/ppt/media/autodecourse.wav" ContentType="audio/x-wav"/>
  <Override PartName="/ppt/media/image4.wmf" ContentType="image/x-wmf"/>
  <Override PartName="/ppt/media/grenouilleextracourt.wav" ContentType="audio/x-wav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EED-C304-4629-B590-02405D2D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F40-985D-487E-A340-CF66F153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427-BD6C-4F37-B4FE-2B8618E6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DCF-0087-4F1A-AF3F-9469E0D3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F40-168A-49BD-9185-4456F04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457-E266-448F-BFEF-3E4B5D0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CE5-024F-4A2C-9B5D-4BA347C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41A-878C-4FCF-AAEC-BDE229BB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AAF-A7EB-40EF-A442-0B3D219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E88-9CB6-4548-B0B6-C2977C0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2E4-CCBA-4E50-9160-1D95ED2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B6C-1A72-4321-BB6A-E95D064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65D-DE12-4D2A-AA29-AE9E224FE3C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utodecour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grenouilleextracourt.wav"/><Relationship Id="rId3" Type="http://schemas.openxmlformats.org/officeDocument/2006/relationships/audio" Target="../media/grenouilleextracourt.wav"/><Relationship Id="rId4" Type="http://schemas.openxmlformats.org/officeDocument/2006/relationships/audio" Target="../media/grenouilleextracourt.wav"/><Relationship Id="rId5" Type="http://schemas.openxmlformats.org/officeDocument/2006/relationships/audio" Target="../media/grenouilleextracour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37240" y="3351240"/>
            <a:ext cx="3506760" cy="350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4640" y="1301760"/>
            <a:ext cx="86266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66ff66"/>
                </a:solidFill>
                <a:latin typeface="Comic Sans MS"/>
              </a:rPr>
              <a:t>Double-clique rapid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66ff66"/>
                </a:solidFill>
                <a:latin typeface="Comic Sans MS"/>
              </a:rPr>
              <a:t>sur l'objet pour qu'i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66ff66"/>
                </a:solidFill>
                <a:latin typeface="Comic Sans MS"/>
              </a:rPr>
              <a:t>s'an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6262560" y="5765760"/>
            <a:ext cx="2881440" cy="1170000"/>
            <a:chOff x="6262560" y="5765760"/>
            <a:chExt cx="2881440" cy="11700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rcRect l="0" t="-1845" r="36588" b="0"/>
            <a:stretch/>
          </p:blipFill>
          <p:spPr>
            <a:xfrm>
              <a:off x="6262560" y="5765760"/>
              <a:ext cx="28814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62720" y="6110280"/>
              <a:ext cx="17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Réess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254640" y="5756400"/>
            <a:ext cx="2889360" cy="1101600"/>
          </a:xfrm>
          <a:custGeom>
            <a:avLst/>
            <a:gdLst>
              <a:gd name="textAreaLeft" fmla="*/ 71280 w 2889360"/>
              <a:gd name="textAreaRight" fmla="*/ 2818080 w 2889360"/>
              <a:gd name="textAreaTop" fmla="*/ 71280 h 1101600"/>
              <a:gd name="textAreaBottom" fmla="*/ 1030320 h 1101600"/>
            </a:gdLst>
            <a:ahLst/>
            <a:rect l="textAreaLeft" t="textAreaTop" r="textAreaRight" b="textAreaBottom"/>
            <a:pathLst>
              <a:path w="56643" h="21600">
                <a:moveTo>
                  <a:pt x="0" y="0"/>
                </a:moveTo>
                <a:lnTo>
                  <a:pt x="56643" y="0"/>
                </a:lnTo>
                <a:lnTo>
                  <a:pt x="56643" y="21600"/>
                </a:lnTo>
                <a:lnTo>
                  <a:pt x="0" y="21600"/>
                </a:lnTo>
                <a:close/>
              </a:path>
              <a:path fill="lightenLess" w="56643" h="21600">
                <a:moveTo>
                  <a:pt x="0" y="0"/>
                </a:moveTo>
                <a:lnTo>
                  <a:pt x="56643" y="0"/>
                </a:lnTo>
                <a:lnTo>
                  <a:pt x="55243" y="1400"/>
                </a:lnTo>
                <a:lnTo>
                  <a:pt x="1400" y="1400"/>
                </a:lnTo>
                <a:close/>
              </a:path>
              <a:path fill="darken" w="56643" h="21600">
                <a:moveTo>
                  <a:pt x="56643" y="0"/>
                </a:moveTo>
                <a:lnTo>
                  <a:pt x="56643" y="21600"/>
                </a:lnTo>
                <a:lnTo>
                  <a:pt x="55243" y="20200"/>
                </a:lnTo>
                <a:lnTo>
                  <a:pt x="55243" y="1400"/>
                </a:lnTo>
                <a:close/>
              </a:path>
              <a:path fill="darkenLess" w="56643" h="21600">
                <a:moveTo>
                  <a:pt x="56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3" y="20200"/>
                </a:lnTo>
                <a:close/>
              </a:path>
              <a:path fill="lighten" w="56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773520" y="2360520"/>
            <a:ext cx="1932120" cy="170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2360520"/>
            <a:ext cx="1933560" cy="170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74960" y="2324160"/>
            <a:ext cx="1932120" cy="170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27840" y="589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25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6262560" y="5765760"/>
            <a:ext cx="2881440" cy="1170000"/>
            <a:chOff x="6262560" y="5765760"/>
            <a:chExt cx="2881440" cy="1170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0" t="-1845" r="36588" b="0"/>
            <a:stretch/>
          </p:blipFill>
          <p:spPr>
            <a:xfrm>
              <a:off x="6262560" y="5765760"/>
              <a:ext cx="28814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462720" y="6110280"/>
              <a:ext cx="17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Réess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254640" y="5756400"/>
            <a:ext cx="2889360" cy="1101600"/>
          </a:xfrm>
          <a:custGeom>
            <a:avLst/>
            <a:gdLst>
              <a:gd name="textAreaLeft" fmla="*/ 71280 w 2889360"/>
              <a:gd name="textAreaRight" fmla="*/ 2818080 w 2889360"/>
              <a:gd name="textAreaTop" fmla="*/ 71280 h 1101600"/>
              <a:gd name="textAreaBottom" fmla="*/ 1030320 h 1101600"/>
            </a:gdLst>
            <a:ahLst/>
            <a:rect l="textAreaLeft" t="textAreaTop" r="textAreaRight" b="textAreaBottom"/>
            <a:pathLst>
              <a:path w="56643" h="21600">
                <a:moveTo>
                  <a:pt x="0" y="0"/>
                </a:moveTo>
                <a:lnTo>
                  <a:pt x="56643" y="0"/>
                </a:lnTo>
                <a:lnTo>
                  <a:pt x="56643" y="21600"/>
                </a:lnTo>
                <a:lnTo>
                  <a:pt x="0" y="21600"/>
                </a:lnTo>
                <a:close/>
              </a:path>
              <a:path fill="lightenLess" w="56643" h="21600">
                <a:moveTo>
                  <a:pt x="0" y="0"/>
                </a:moveTo>
                <a:lnTo>
                  <a:pt x="56643" y="0"/>
                </a:lnTo>
                <a:lnTo>
                  <a:pt x="55243" y="1400"/>
                </a:lnTo>
                <a:lnTo>
                  <a:pt x="1400" y="1400"/>
                </a:lnTo>
                <a:close/>
              </a:path>
              <a:path fill="darken" w="56643" h="21600">
                <a:moveTo>
                  <a:pt x="56643" y="0"/>
                </a:moveTo>
                <a:lnTo>
                  <a:pt x="56643" y="21600"/>
                </a:lnTo>
                <a:lnTo>
                  <a:pt x="55243" y="20200"/>
                </a:lnTo>
                <a:lnTo>
                  <a:pt x="55243" y="1400"/>
                </a:lnTo>
                <a:close/>
              </a:path>
              <a:path fill="darkenLess" w="56643" h="21600">
                <a:moveTo>
                  <a:pt x="56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3" y="20200"/>
                </a:lnTo>
                <a:close/>
              </a:path>
              <a:path fill="lighten" w="56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5826240" y="0"/>
            <a:ext cx="3317760" cy="257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26240" y="0"/>
            <a:ext cx="3317760" cy="257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26240" y="0"/>
            <a:ext cx="3317760" cy="256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97440" y="4313160"/>
            <a:ext cx="2265480" cy="254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flipH="1">
            <a:off x="-3346920" y="2233440"/>
            <a:ext cx="3318120" cy="2675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95226 0.31504 E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24549 0.31204 E">
                                      <p:cBhvr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549 0.31204 L 0.63629 0.30579 E">
                                      <p:cBhvr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74720" y="2279520"/>
            <a:ext cx="3408480" cy="2016360"/>
          </a:xfrm>
          <a:custGeom>
            <a:avLst/>
            <a:gdLst>
              <a:gd name="textAreaLeft" fmla="*/ 130680 w 3408480"/>
              <a:gd name="textAreaRight" fmla="*/ 3277800 w 3408480"/>
              <a:gd name="textAreaTop" fmla="*/ 130680 h 2016360"/>
              <a:gd name="textAreaBottom" fmla="*/ 1885680 h 2016360"/>
            </a:gdLst>
            <a:ahLst/>
            <a:rect l="textAreaLeft" t="textAreaTop" r="textAreaRight" b="textAreaBottom"/>
            <a:pathLst>
              <a:path w="36510" h="21600">
                <a:moveTo>
                  <a:pt x="0" y="0"/>
                </a:moveTo>
                <a:lnTo>
                  <a:pt x="36510" y="0"/>
                </a:lnTo>
                <a:lnTo>
                  <a:pt x="36510" y="21600"/>
                </a:lnTo>
                <a:lnTo>
                  <a:pt x="0" y="21600"/>
                </a:lnTo>
                <a:close/>
              </a:path>
              <a:path fill="lightenLess" w="36510" h="21600">
                <a:moveTo>
                  <a:pt x="0" y="0"/>
                </a:moveTo>
                <a:lnTo>
                  <a:pt x="36510" y="0"/>
                </a:lnTo>
                <a:lnTo>
                  <a:pt x="35110" y="1400"/>
                </a:lnTo>
                <a:lnTo>
                  <a:pt x="1400" y="1400"/>
                </a:lnTo>
                <a:close/>
              </a:path>
              <a:path fill="darken" w="36510" h="21600">
                <a:moveTo>
                  <a:pt x="36510" y="0"/>
                </a:moveTo>
                <a:lnTo>
                  <a:pt x="36510" y="21600"/>
                </a:lnTo>
                <a:lnTo>
                  <a:pt x="35110" y="20200"/>
                </a:lnTo>
                <a:lnTo>
                  <a:pt x="35110" y="1400"/>
                </a:lnTo>
                <a:close/>
              </a:path>
              <a:path fill="darkenLess" w="36510" h="21600">
                <a:moveTo>
                  <a:pt x="36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0" y="20200"/>
                </a:lnTo>
                <a:close/>
              </a:path>
              <a:path fill="lighten" w="36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omm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4960800" y="2281320"/>
            <a:ext cx="3408480" cy="2016000"/>
          </a:xfrm>
          <a:custGeom>
            <a:avLst/>
            <a:gdLst>
              <a:gd name="textAreaLeft" fmla="*/ 130680 w 3408480"/>
              <a:gd name="textAreaRight" fmla="*/ 3277800 w 340848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36517" h="21600">
                <a:moveTo>
                  <a:pt x="0" y="0"/>
                </a:moveTo>
                <a:lnTo>
                  <a:pt x="36517" y="0"/>
                </a:lnTo>
                <a:lnTo>
                  <a:pt x="36517" y="21600"/>
                </a:lnTo>
                <a:lnTo>
                  <a:pt x="0" y="21600"/>
                </a:lnTo>
                <a:close/>
              </a:path>
              <a:path fill="lightenLess" w="36517" h="21600">
                <a:moveTo>
                  <a:pt x="0" y="0"/>
                </a:moveTo>
                <a:lnTo>
                  <a:pt x="36517" y="0"/>
                </a:lnTo>
                <a:lnTo>
                  <a:pt x="35117" y="1400"/>
                </a:lnTo>
                <a:lnTo>
                  <a:pt x="1400" y="1400"/>
                </a:lnTo>
                <a:close/>
              </a:path>
              <a:path fill="darken" w="36517" h="21600">
                <a:moveTo>
                  <a:pt x="36517" y="0"/>
                </a:moveTo>
                <a:lnTo>
                  <a:pt x="36517" y="21600"/>
                </a:lnTo>
                <a:lnTo>
                  <a:pt x="35117" y="20200"/>
                </a:lnTo>
                <a:lnTo>
                  <a:pt x="35117" y="1400"/>
                </a:lnTo>
                <a:close/>
              </a:path>
              <a:path fill="darkenLess" w="36517" h="21600">
                <a:moveTo>
                  <a:pt x="36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7" y="20200"/>
                </a:lnTo>
                <a:close/>
              </a:path>
              <a:path fill="lighten" w="36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372360" y="3171960"/>
            <a:ext cx="1827000" cy="83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72360" y="3171960"/>
            <a:ext cx="1827000" cy="8334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6262560" y="5765760"/>
            <a:ext cx="2881440" cy="1170000"/>
            <a:chOff x="6262560" y="5765760"/>
            <a:chExt cx="2881440" cy="1170000"/>
          </a:xfrm>
        </p:grpSpPr>
        <p:pic>
          <p:nvPicPr>
            <p:cNvPr id="47" name="" descr=""/>
            <p:cNvPicPr/>
            <p:nvPr/>
          </p:nvPicPr>
          <p:blipFill>
            <a:blip r:embed="rId3"/>
            <a:srcRect l="0" t="-1845" r="36588" b="0"/>
            <a:stretch/>
          </p:blipFill>
          <p:spPr>
            <a:xfrm>
              <a:off x="6262560" y="5765760"/>
              <a:ext cx="28814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462720" y="6110280"/>
              <a:ext cx="17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Réess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254640" y="5756400"/>
            <a:ext cx="2889360" cy="1101600"/>
          </a:xfrm>
          <a:custGeom>
            <a:avLst/>
            <a:gdLst>
              <a:gd name="textAreaLeft" fmla="*/ 71280 w 2889360"/>
              <a:gd name="textAreaRight" fmla="*/ 2818080 w 2889360"/>
              <a:gd name="textAreaTop" fmla="*/ 71280 h 1101600"/>
              <a:gd name="textAreaBottom" fmla="*/ 1030320 h 1101600"/>
            </a:gdLst>
            <a:ahLst/>
            <a:rect l="textAreaLeft" t="textAreaTop" r="textAreaRight" b="textAreaBottom"/>
            <a:pathLst>
              <a:path w="56643" h="21600">
                <a:moveTo>
                  <a:pt x="0" y="0"/>
                </a:moveTo>
                <a:lnTo>
                  <a:pt x="56643" y="0"/>
                </a:lnTo>
                <a:lnTo>
                  <a:pt x="56643" y="21600"/>
                </a:lnTo>
                <a:lnTo>
                  <a:pt x="0" y="21600"/>
                </a:lnTo>
                <a:close/>
              </a:path>
              <a:path fill="lightenLess" w="56643" h="21600">
                <a:moveTo>
                  <a:pt x="0" y="0"/>
                </a:moveTo>
                <a:lnTo>
                  <a:pt x="56643" y="0"/>
                </a:lnTo>
                <a:lnTo>
                  <a:pt x="55243" y="1400"/>
                </a:lnTo>
                <a:lnTo>
                  <a:pt x="1400" y="1400"/>
                </a:lnTo>
                <a:close/>
              </a:path>
              <a:path fill="darken" w="56643" h="21600">
                <a:moveTo>
                  <a:pt x="56643" y="0"/>
                </a:moveTo>
                <a:lnTo>
                  <a:pt x="56643" y="21600"/>
                </a:lnTo>
                <a:lnTo>
                  <a:pt x="55243" y="20200"/>
                </a:lnTo>
                <a:lnTo>
                  <a:pt x="55243" y="1400"/>
                </a:lnTo>
                <a:close/>
              </a:path>
              <a:path fill="darkenLess" w="56643" h="21600">
                <a:moveTo>
                  <a:pt x="56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3" y="20200"/>
                </a:lnTo>
                <a:close/>
              </a:path>
              <a:path fill="lighten" w="56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3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72360" y="3171960"/>
            <a:ext cx="182700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utodecourse.wav"/>
                                        </p:tgtEl>
                                      </p:cMediaNode>
                                    </p:audio>
                                    <p:animMotion origin="layout" path="M -1.38889E-006 1.85185E-006 L -0.98976 -0.00209 E">
                                      <p:cBhvr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262560" y="5765760"/>
            <a:ext cx="2881440" cy="1170000"/>
            <a:chOff x="6262560" y="5765760"/>
            <a:chExt cx="2881440" cy="11700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rcRect l="0" t="-1845" r="36588" b="0"/>
            <a:stretch/>
          </p:blipFill>
          <p:spPr>
            <a:xfrm>
              <a:off x="6262560" y="5765760"/>
              <a:ext cx="288144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62720" y="6110280"/>
              <a:ext cx="17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Réess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254640" y="5756400"/>
            <a:ext cx="2889360" cy="1101600"/>
          </a:xfrm>
          <a:custGeom>
            <a:avLst/>
            <a:gdLst>
              <a:gd name="textAreaLeft" fmla="*/ 71280 w 2889360"/>
              <a:gd name="textAreaRight" fmla="*/ 2818080 w 2889360"/>
              <a:gd name="textAreaTop" fmla="*/ 71280 h 1101600"/>
              <a:gd name="textAreaBottom" fmla="*/ 1030320 h 1101600"/>
            </a:gdLst>
            <a:ahLst/>
            <a:rect l="textAreaLeft" t="textAreaTop" r="textAreaRight" b="textAreaBottom"/>
            <a:pathLst>
              <a:path w="56643" h="21600">
                <a:moveTo>
                  <a:pt x="0" y="0"/>
                </a:moveTo>
                <a:lnTo>
                  <a:pt x="56643" y="0"/>
                </a:lnTo>
                <a:lnTo>
                  <a:pt x="56643" y="21600"/>
                </a:lnTo>
                <a:lnTo>
                  <a:pt x="0" y="21600"/>
                </a:lnTo>
                <a:close/>
              </a:path>
              <a:path fill="lightenLess" w="56643" h="21600">
                <a:moveTo>
                  <a:pt x="0" y="0"/>
                </a:moveTo>
                <a:lnTo>
                  <a:pt x="56643" y="0"/>
                </a:lnTo>
                <a:lnTo>
                  <a:pt x="55243" y="1400"/>
                </a:lnTo>
                <a:lnTo>
                  <a:pt x="1400" y="1400"/>
                </a:lnTo>
                <a:close/>
              </a:path>
              <a:path fill="darken" w="56643" h="21600">
                <a:moveTo>
                  <a:pt x="56643" y="0"/>
                </a:moveTo>
                <a:lnTo>
                  <a:pt x="56643" y="21600"/>
                </a:lnTo>
                <a:lnTo>
                  <a:pt x="55243" y="20200"/>
                </a:lnTo>
                <a:lnTo>
                  <a:pt x="55243" y="1400"/>
                </a:lnTo>
                <a:close/>
              </a:path>
              <a:path fill="darkenLess" w="56643" h="21600">
                <a:moveTo>
                  <a:pt x="56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3" y="20200"/>
                </a:lnTo>
                <a:close/>
              </a:path>
              <a:path fill="lighten" w="56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324000" y="3129120"/>
            <a:ext cx="1931760" cy="111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127320"/>
            <a:ext cx="1933560" cy="1120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3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127320"/>
            <a:ext cx="1931760" cy="111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enouilleextracourt.wav"/>
                                        </p:tgtEl>
                                      </p:cMediaNode>
                                    </p:audio>
                                    <p:animMotion origin="layout" path="M 3.88889E-006 0 L 0.06441 -0.2125 C 0.07795 -0.26065 0.09826 -0.28727 0.11927 -0.28727 C 0.1434 -0.28727 0.16267 -0.26065 0.17621 -0.2125 L 0.24079 0 E">
                                      <p:cBhvr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renouilleextracourt.wav"/>
                                        </p:tgtEl>
                                      </p:cMediaNode>
                                    </p:audio>
                                    <p:animMotion origin="layout" path="M 0.2408 0 L 0.30782 -0.21921 C 0.32188 -0.26875 0.34289 -0.2963 0.36476 -0.2963 C 0.38976 -0.2963 0.40973 -0.26875 0.42379 -0.21921 L 0.4908 0 E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renouilleextracourt.wav"/>
                                        </p:tgtEl>
                                      </p:cMediaNode>
                                    </p:audio>
                                    <p:animMotion origin="layout" path="M 0.4908 0 L 0.55781 -0.2081 C 0.57188 -0.25486 0.59288 -0.28102 0.61476 -0.28102 C 0.63976 -0.28102 0.65972 -0.25486 0.67379 -0.2081 L 0.7408 0 E">
                                      <p:cBhvr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renouilleextracourt.wav"/>
                                        </p:tgtEl>
                                      </p:cMediaNode>
                                    </p:audio>
                                    <p:animMotion origin="layout" path="M 0.7408 7.40741E-007 L 0.80782 -0.20116 C 0.82188 -0.24676 0.84289 -0.27199 0.86476 -0.27199 C 0.88976 -0.27199 0.90973 -0.24676 0.92379 -0.20116 L 0.9908 7.40741E-007 E">
                                      <p:cBhvr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1:35:02Z</dcterms:created>
  <dc:creator>CSDHR</dc:creator>
  <dc:description/>
  <dc:language>en-US</dc:language>
  <cp:lastModifiedBy>Technology Trish</cp:lastModifiedBy>
  <dcterms:modified xsi:type="dcterms:W3CDTF">2007-01-17T20:47:34Z</dcterms:modified>
  <cp:revision>16</cp:revision>
  <dc:subject/>
  <dc:title>Diapositive 1</dc:title>
</cp:coreProperties>
</file>